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2128-34BC-4487-B893-3C7A328CB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83E7-3126-41BE-ABBF-1A28F4D8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AACB-71E1-4510-9A23-F1363C296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347F-0F07-43EE-B6FE-DE3B1E0F1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74F9-F3EE-4C20-92F7-78233514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B05F-B6F5-4329-AA50-66D51C2D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D87C-B356-4725-9CEE-72943B11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F983-60A4-4191-979C-EAFCB74B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EDB1-D29D-4F76-B860-D0528F85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CA41-057A-4E32-9174-A44FF52F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FB5F-4412-4927-A511-73D20F5E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B976-C3BF-46D9-91D7-F257AE35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2524-B615-4C41-B407-D40355928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UNTOS  CALIENTES  Y  PLUMAS     MANTÉL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O OBSTANTE  QUE  EL  SISTEMA TECTÓNICO   ES  DOMINADO  POR   PROCESOS  GEOLÓGICOS  QUE  OCURREN  EN  LOS MÁRGENES  DE  LAS  PLACAS,  Y  EL  ENFOQUE  PRINCIPAL  DE  LO  VISTO  HASTA AHORA   SE  CENTRA  EN  LOS  BORDES  DE  PLACAS,   EL  INTERIOR  DE  ÉSTAS  NO  ES  TOTALMENTE  PASIVO,  NI  ESTÁ  COMPLETAMENTE  QUIE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EJOS  DE  LOS  BORDES  DE  PLACA, 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UMAS   MANTÉL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PARECEN  SER  LA  EXPRESIÓN  MAYOR  DEL  CALOR  INTERNO  DE  LA TIERRA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  TRATA  DE   UNA  FUENTE   DE  MATERIAL  CALIENTE,    QUE   ASCIENDE  DESDE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ÍMITE   DEL  NUCLEO  CON  EL   MA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EN  FORMA  DE  LARGAS  COLUMNAS  VERTICALES,  QUE  AL  LLEGAR   CERCA  DE   LA SUPERFICIE,   PRODUCEN   LOS  CONOCIDO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UNTOS  CALIENT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( “HOTSPOTS”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UNTOS  CALIENT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SE   CARACTERIZAN  POR  PRESENTAR  UNA  VASTA  CORTEZA  HINCHADA,  ACTIVIDAD   VOLCÁNICA   INTENSA,  Y    ELEVADOS     FLUJOS  CALIENTE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MAGMA  BASÁLTICO   QUE   SE  GENERA  EN  UN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UNTO   CALIENT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   SE  DISTINGUE  PORQUE   HA  DERIVADO   PARCIALMENTE   DE  VESTIGIOS  DE   ANTIGUO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“SLAB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”  SUBDUCTADOS    HASTA  LAS  PROFUNDIDADES  DEL  MA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LOS  EMPLAZAMIENTOS  CONTINENTALES  SE  PUEDE   FORMAR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IOLIT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ENCIMA  DE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UMA  MANTÉL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POR    MEZCLA  PARCIAL  CON LA CORTEZA,   O   POR  CRISTALIZACIÓN   FRACCIONADA  DEL  BASAL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PUNTOS     CALIENTES   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(continu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UMAS  MANTÉL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CERCA  DEL  FONDO  OCEÁNICO,   PUEDEN PPRODUCIR  ABUNDANTE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LUJOS  BASÁLTI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N  EL  FONDO  DEL  OCÉANO,  Y  FORMAR   EXTENSO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LATEAU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CEÁNI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L  CONTINUAR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ACA LITOSFÉRICA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SPLAZÁNDOSE   ENCIMA  DE  LA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PLUM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SE   FORMA  UNA  ANGOST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DENA  DE  MONTES  OCEÁNICOS  VOLCÁNI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CON   VOLCANES ACTIVO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ODUCIENTO  DIRECTAMENTE    ENCIMA    DE   LA   COLA  DE  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PLUM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(Ej.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CHIPIÉLAGO   DE  HAWAI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CASO  QUE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LA   PLUM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STÉ  CENTRADA  EN   UN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IDGE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DIO  ACEÁNICO,  SE  FORMA  UN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ATEAU    VOLCÁNI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ALARGADO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UMAS  MANTÉL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CERCA  DE    CONTINENTES   PUEDEN  CAUSAR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LZAMIENTOS  REGION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RUPCIONES  D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LUJOS  CONTINENTALES  BASÁLTI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TAMBIÉN  SE  PUEDEN   DESARROLLAR,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TEMAS  DE  CALDERAS  RIOLÍT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SI  LA  CORTEZA  CONTINENTAL  SE     MEZCLA  PARCIALMENTE  CON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GMA  BASÁLTICO CALIENT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 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U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INALMENTE,  SE  PUEDE  SOSTENER  QUE  LA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PLUMA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UEDEN     EFECTAR  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TEMA  CLIMÁTI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  LA TIERRA  Y  SU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MPO MAGNÉT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7T20:10:21Z</dcterms:created>
  <dc:creator>Universidad de Chile</dc:creator>
  <dc:description/>
  <dc:language>en-US</dc:language>
  <cp:lastModifiedBy>Universidad de Chile</cp:lastModifiedBy>
  <dcterms:modified xsi:type="dcterms:W3CDTF">2001-06-27T22:33:51Z</dcterms:modified>
  <cp:revision>5</cp:revision>
  <dc:subject/>
  <dc:title>“HOTSPOTS”     Y     PLUMAS     MANTÉLICAS</dc:title>
</cp:coreProperties>
</file>